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1CA-9068-4B60-9059-3F5208CB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5D6-B05B-46AD-AB7F-70FE822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3CD-C671-47D0-A9A4-F614FFB3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753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56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753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56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AC2-13E9-4092-9BB5-C866A5E9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9C4-3973-45A0-8DCE-BF4A110B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BC06-3EB6-4432-8DEB-686530EB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474-9D07-459F-BEC5-9F3C5FF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1882-BF44-48DA-8D45-063DCAB1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1216-8205-476E-A25A-149BFB7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047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B9C3-D9FE-4FD3-A779-DF249AC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A378-A6AD-4907-B28C-358A5AA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055-762E-409B-ABAF-3ADC33E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83B0-9628-48B9-8237-D0CB8BF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E858-2238-428D-B6E9-392E179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F7A-CE96-479F-8D6F-1C0030C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97A-6E9E-4B0A-B9ED-D0D4186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53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456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53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456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3DC1-578D-4B3D-9B58-E15E95D3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DCC-2E17-4FA6-B339-E2B6DED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919-EF48-48FA-9E46-40F87E99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2CD-87BF-4A50-AEBB-261DCE2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342-50C0-4C89-B10A-86E40B51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EDE-EF28-440C-82C8-EB4764B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68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821-A632-4268-9450-B29B01CA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68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7F6-06E3-44C0-BBCD-A1C3399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244920"/>
            <a:ext cx="556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E593-67E0-40F6-B78A-86142066F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67652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42840" y="6244920"/>
            <a:ext cx="487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772400" y="62449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2908-EBF2-42A4-B3A6-BECB4EE2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733920"/>
            <a:ext cx="723924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1781280" cy="2077560"/>
            <a:chOff x="0" y="0"/>
            <a:chExt cx="1781280" cy="2077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8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1160640"/>
              <a:ext cx="17636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993300"/>
                  </a:solidFill>
                  <a:latin typeface="Bookman Old Style"/>
                </a:rPr>
                <a:t>LIETUVOS VERSLO KOL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71629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ME TAXES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196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lva Bla</a:t>
            </a:r>
            <a:r>
              <a:rPr b="0" i="1" lang="lt-LT" sz="2600" spc="-1" strike="noStrike">
                <a:solidFill>
                  <a:srgbClr val="000000"/>
                </a:solidFill>
                <a:latin typeface="Times New Roman"/>
              </a:rPr>
              <a:t>žulionienė (lecturer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imes New Roman"/>
              </a:rPr>
              <a:t>2013-05-23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Value added tax (VAT)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standard rate,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e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pplied to medical and medical purposes product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T is appli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for heating and hot water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upply of books and printed nonperiodical material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T rate is applicable to transport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F11-9954-408A-889C-166BAED717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Corporate income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% – the standard ra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%  – for micro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profit tax rate applied to legal entities is 15%. Small enterprises with an annual income not exceeding LTL 500,000 and an average number of employees not exceeding 10 are subject to a 5% profit tax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88E-85B9-49AB-A430-C9929BDC5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Dividend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15% for legal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20% for private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nds received from Lithuanian and foreign enterprises shall not be taxed if the recipient thereof has owned no less than 10% of the shares for at least 12 months. The recipient may consider such dividends as non-taxable income in Lithuan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E1C-B33F-402F-BBCF-C8CABC30D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Social security contributions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% pension insurance – emploee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% health insurance – employee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,98% -31,7% employer’s 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711-7DC4-40BE-AB43-30C51A3C15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Real property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0,3 % to 1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tax is set annually by municipalities within this range. “Taxable value” is calculated by reference to market value, using a system of classification of different types of proper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8D6-31FA-4C7A-BA9C-74199DBF95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Personal income tax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income ta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ncome tax of individuals (ITI) must be paid on derived income by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idents of Lithuan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n-residents of Lithuania who pay the ITI on income sourced in Lithu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5F3-F372-422B-ADBC-2BCA3EEC9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imes New Roman"/>
              </a:rPr>
              <a:t>Main excise taxes</a:t>
            </a: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x object: ethyl alcohol and alcohol drinks, manufactured tobacco, energy drinks, fuel, electricity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039-3038-4286-B26E-1254C6AA1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THANKS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041-8B79-43A4-8298-81F4A6A32D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1:08:56Z</dcterms:created>
  <dc:creator>Destytojas</dc:creator>
  <dc:description/>
  <dc:language>en-US</dc:language>
  <cp:lastModifiedBy>Silva</cp:lastModifiedBy>
  <dcterms:modified xsi:type="dcterms:W3CDTF">2013-05-22T11:41:27Z</dcterms:modified>
  <cp:revision>8</cp:revision>
  <dc:subject/>
  <dc:title>VMA MOODLE PRIEMONIŲ NAUDOJIMAS STUDIJŲ PROCESUI GERINTI </dc:title>
</cp:coreProperties>
</file>