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E10-34A6-4243-971F-0BBD1EB8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D3C-5BE6-4A6E-B1CB-3544CAD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9CE98-F7B5-4160-A8EB-06953E61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EDA31-3F06-4244-896D-527D1A44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92773-D6BD-49C9-8B67-14F11AB6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85095-3349-4312-B0D7-72FC1374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2B75B-D41C-40AA-A0C4-30340A28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4D44B-AFC4-497F-BFC6-D07FE50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20EA6-7207-4FBA-95F0-DA0461C5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0D390-69C2-4003-8CEF-4CB8A9C3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191C6-1FFF-4455-85A4-4B8F863A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8D8B6-572B-4732-A8AA-B051CBAD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1DF-C336-4893-8DD7-F9FA3D31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66663-3C20-4302-862A-F8E497D5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A55B9-D79D-4C3A-9FC8-91F6F957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0D664-737D-4BD6-AADA-8108078E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275FE-51BD-4D64-99BE-1E2C1938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0720B-3A1B-45FB-9294-C826838E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07C47-C035-4346-8AAF-168A008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87BC1-B1FF-4CD7-BD3D-36B0494C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01976-0D6F-4A99-B643-7AEC4E0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1F6AC-98DE-4D00-80DD-DD1541AB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1F79B-26F3-47A9-B6C5-70C10304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916-9A6F-42DA-9611-CA4AE9B2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03F53-48A8-4E64-BB94-D3A6A959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4663D-2830-4D95-A5B1-B6142233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32232-274C-435E-A0E6-D5D6AB42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EC5CF-26D6-481D-B04F-D02CED21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68742-5602-4FD2-B1E1-FE06B859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08C4B-74FE-4AA9-9816-FD863731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C4180-EF84-4055-9E7D-F33BCCBF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8D96F-F40F-4FC5-8240-FDFC708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86E9A-7FFF-43D5-A2D7-EEBFC9A6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F209D-70EE-4AE3-A88C-A30F8059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84C5-8950-461B-A64C-16879A6D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B94B2-0B02-4835-A1EC-E97E67AF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60E45-7BBF-4101-BE94-8A60AE76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8367E-F400-40B3-BCBD-168A0843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5743D-4F4A-4DCC-903C-C6388660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84CF-599A-49BB-B585-1CDCF2B4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B4DE7-AFB8-43BB-8AF8-A9AE2E45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DA10E-4F44-4FBD-8FC9-F3DFC939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6B340-26FA-4DAE-9ECC-287AD368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9BF68-3F93-47B1-AB34-13484422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D1978-CA3F-449C-AF59-E4395EA2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2A64-5F49-42AF-8A31-5A894A7A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E4DBB-63C6-4D50-AE53-7027517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8BBB5-45D4-437F-9547-80F5D4E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81C9B-8265-4F7B-B4F9-AD90EA1F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6A1C2-221C-457C-A77A-749A496F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64221-DC65-4C07-A971-75813D81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057EE-EE0E-487B-B6FB-3FB5ABB5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5C88C-A64F-46CD-83BA-7114B0B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7ECD9-A805-46E7-8660-B118C4BD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FC353-B806-4262-BD4A-C3C594DD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286A9-608B-4536-A44D-B28FC86D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FC3F-BA86-4062-9803-274236B6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D3327-B2E0-4FE3-A928-95618865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0ED4B-7952-4E58-B0F5-8DA7EDC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6A1BE-A10C-4E2C-869F-3AE8D0A0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947F8-40BB-4EDC-A9E8-64E6241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29973-A77E-4CD2-836D-5FE33CE2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4A85B-5C33-4F50-A048-47B54BB0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A1984-B301-4AD3-A129-C6749F69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BA79E-D430-4278-B809-54E13B21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DFE51-6B54-4ED3-A61D-A4EF658C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1C2BF-23CF-44C9-BFA7-99D909D5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6078-2048-4C53-A66A-FFCF3746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5C875-7420-4D39-BAC6-0AEC58CF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D0608-6DEB-409E-A125-61F49A2E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E337D-F4C2-4AB2-A5B1-99706663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F872C-1594-4318-91E5-00FA360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6215D-D7AF-4327-A228-5384B67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FB7BB-AA5C-4301-87D2-93EABCAB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685FA-9E68-4130-BA8C-625521E5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CD976-DB2C-438D-BDEF-0857BCC7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448D2-6A0D-4D1B-8169-4830B68F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39DDB-3B90-4FB1-8414-0A955D55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ECB3-2311-4998-8C36-26184D63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4E89B-31EB-4C77-91EB-154735FC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94922-4C18-4C0F-B35F-63E12010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F7BFD-2518-4A56-90AA-1E4C7942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7A838-95AF-40DA-88B8-470B965F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0DAAA-0BFE-4B20-A2B9-C5295460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50B2C-4FA6-41EE-AD32-0C883E53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5F7C6-0800-43C8-9716-5E4E4409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B42C5-AA21-40B4-88B2-60CEAD2E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3ED0E-993F-455B-9180-0E3D46C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444C0-117A-416C-AFB0-3091F19C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0D45-5A4E-4129-B9E6-36A8F8A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BF395-8664-4D1E-8617-EFFB63AF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E1EFE-6BC6-4315-AFBF-F86BA5D1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C7FEF-B5E9-40E9-9C1C-A5253C6C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222E9-5AD7-4812-B05E-C2FEF230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427F1-BA94-4A55-B033-4EF5D44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D53AA-CC20-41C2-B476-5F847C5E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4153F-E5F4-4687-A701-A9D760C2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FC6BE-6F79-46CC-BD56-44986E0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B077C-55F3-45A3-816A-573928C6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5C434-8EB5-4AF1-AB15-597B0E4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7517-BC2D-4E1F-A6F3-79D6E339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0C4EE-A40D-4F64-A5AF-7D935268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37C26-AA28-40A3-922C-AD13760E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E7E0F-92CB-4496-9396-8D7EBC3A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7B1270-B04E-45F2-9EE9-F56385D1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195DA0-FA60-4C32-BA14-759DD0FB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8792B-87D9-4B57-9D3F-62F5AEF4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4D9F7-748D-44C6-8844-1C282A9F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AA0C8-EEEA-4439-B87E-5F996654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01CC6-C5C9-4D27-B3BC-CC0D45AD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8737F-069C-4863-9878-8BC793B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2E1-4608-43EF-86AE-63CCF9AB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E0BC-B067-4FC7-8132-B1ED7159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008E6-BF05-4C84-BEDB-A84D35FD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03767-6F26-42E0-A6FE-63DE6CDA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CD534-F879-4396-A769-F4C380AB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001C6-D620-4655-A5D7-153CF146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00304-C463-4522-8A74-7C16F14C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0326B-8292-41D6-A01F-EE3ED8E3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FE406-4F24-4A96-98F0-E48DD440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A76A94-8BEC-4963-989C-855BB8C8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CE314-1A3F-4C9D-B9C8-4160600C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E09BD-9026-4A1E-9269-9EDFD6EC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72C8-76CA-46AC-B373-758ED220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3B882-2490-48A9-BF70-8FB9D9E0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53C5EB-7AD6-4FB5-BFA6-A47ACBE1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5676F-14F9-47F6-B3B9-78C56CCA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070A95-7174-455E-B039-88407025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DFD4D-5660-442F-B869-87701631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4EA16-D9CD-4918-9993-35FF5FB2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EEE77-36AC-4BF9-8DDF-E029A911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D670BB-8D88-4EF5-A273-77C5AD87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BEEB90-9419-43E7-B33A-143B829C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0D820-6358-40FD-93D2-7028BB7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AFDA-FE4B-4887-96DA-C0202EC5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873A40-1A2B-4132-95DB-8483AB6C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2617A-07A1-4594-A04B-07B0DFC8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D876CB-5BB6-4906-8894-EE468A0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4AC26-01F2-4105-B5C8-7477F69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84340-8098-47CF-BA19-C26E57D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F6233-54D0-4104-832A-6CFDEA6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D757D-5981-42AF-B6D5-BC5AC1B2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EB66C-A744-4CF6-B527-00D97EA9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7F7E4-C87E-4980-B57F-69E1F4C7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9C5BCD-065F-43E0-A386-49A2052F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CCF6-5AD5-429F-B5C5-A19CFA4A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04695-3CF1-40A5-8ECE-90F27949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941377-3054-4622-A697-9EB18BFD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0E268-9FE1-4AEC-B55E-7587BAEA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32204C-B7EF-4529-8BA1-86522B58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5539C-C6CE-4279-BFFE-9EA58307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BB7D1-1A86-4C8C-B052-BA58194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DD8159-D301-43E0-8401-72D86EF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5CFF5-DF76-465C-901F-1702CA90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5F18C-B726-4E8A-B4B3-A236044F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5C9F4-E34D-433B-A9EF-19A0B51E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2B5C-9CD9-44E0-B1D1-20AEECEE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70F62-5AE6-4E41-8A03-5167A138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38FF31-AC1F-4AA6-82F9-CEE630D6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A03CAC-A92A-424A-B9C7-1B1C9E57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1B6B1-2824-4551-AEE3-05F26724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9029AD-BCC6-43D2-9C6E-ED8C1264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F08103-8997-4D4E-9A53-57399E4D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3AA34-8AA0-4079-9570-374C712B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C59A13-C619-4E35-82C8-B0A260A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0A89A-A54C-45CA-8DD0-D6F4A53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1BBBF-1976-4ABC-B494-1D370FC4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EE02-A5D5-4A12-8C1C-A8F4B03F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46BB92-2728-495B-9BA8-0D1C1E47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3D761-7F29-443E-A347-CDE05CA2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A3332B-323A-4979-AF56-D06F7E7E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78583B-29CB-4FEB-9A44-73C4AF02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A723B8-D7D9-48E9-AD34-C950F756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723178-A2E4-4DD2-8C7B-9DF3ADD0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34E520-5EB2-404E-8BA8-FAC5CD0F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E72651-7937-4584-B910-47264A17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947C2-806F-486E-B94B-73F2AED1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76505B-518E-4BEC-A809-2CC432CD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5CFA-0AA2-4BA3-B885-033AE9F8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FAB71A-060D-48E7-9F1B-92683CD7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E40B7F-F2C9-4B18-85D9-ED4AB3F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C57316-3B51-408B-8AD3-CBE7FBFC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76E82C-97D3-448C-8BA1-A4716C2B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C3D888-720C-4BAF-B028-A9FAEECA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81D78-30EA-44B3-9F98-4ACCCC5D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EF6DBF-A226-4EE3-8590-D56CB72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C212E0-6F9F-49EB-9176-50745DCF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D7BBB5-E05B-4A4F-A12A-5F52EE20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127C65-8388-4C0E-9A90-CC4DAE3E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94C59-9863-4F16-9261-D3DCB755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FA53D0-8E2D-4C6B-9607-EF10BBC2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6CA792-C0DF-4B36-8126-F35AA02D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3C64C2-3FEC-432E-BE63-C57FBF18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7D9F56-188C-429C-A4A2-8EF8B7E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A831E4-DE08-45D0-91AF-0248C219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B21D3A-1CDD-42CD-A963-68090C17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B399AC-34E4-436C-9EDD-108AF52D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8633CE-E285-4D51-8C81-46665D76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B6F297-FD48-4C47-A8EE-F460AF7B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B6854A-072B-4E3E-994D-64806409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4A6E-13D3-4DDE-8C5A-7DDF11CA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778E85-7318-47D9-910C-DEBE5B3D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7E77D1-CD1B-44BC-81E6-957261A8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F9516F-8635-400A-929E-54E01613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408ACC-C6AA-4DA0-9F00-8F656645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1B3EAE-73FA-4865-9D86-8EFE6F8C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DB0840-6312-4D2D-9D88-D5216D51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528556-789A-4D7C-9889-E98899B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715822-311C-495B-B892-5DECFACD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36C8F-4021-4D06-A121-4959F8CC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D9382A-F75A-4F59-9BC3-61A7AC06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D9CF-C1AE-4828-A1F9-063326E6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EC5B6A-DB97-4ED9-9FD2-D1F62907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7A23E9-F86F-41F8-B9C4-8142C4E4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CD0843-26BF-44BB-B813-9957EF4B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69A948-E40C-4D9C-9765-3DA69233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A263F5-F02C-4A6F-83A4-BC1FF272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630D29-70C2-48E0-ABCC-98B379D1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5988FA-DD38-4C35-8DE9-C0D148D7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6BD5EC-53D5-4457-91A6-E62CE8BA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1FE4AD-465C-4871-BF63-4A2FA30A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3E836B-86A4-4382-AFEC-C562F862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435-D596-44FA-8D2B-76651A1E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8C95-A559-4420-BD99-EF670639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5B68FA-34A2-4B9B-AC41-FBEDFBC2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AE2391-6AD3-445D-823C-1E8794E4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2EC642-BD0C-476F-8A04-E7623B82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906739-9127-4C27-8B72-03EEE32F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9AA4D2-D3FC-4775-BC90-DB9DE239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6B1806-B575-4B6E-BD7E-10928BF4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55327C-59CB-4D89-B40D-FB227B6B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FF2108-1424-42C8-B0D6-4E5F1D37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3D8982-C11F-48A7-B8AE-23AF7EC0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C52C01-9851-4B29-8BBD-E44F83C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1F27-FF35-4096-BB3E-DC77C3F9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C57B84-158A-492E-AF9B-25DB891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D632B0-D3FA-4986-A898-FB6E3C26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0F95EB-B258-4292-A505-B75C094A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817BFC-DB9B-4DCB-BF40-6CE745AA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0AAA1B-DA86-45A0-BB81-A54F5CCF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BDF8D3-18FF-4FA5-B160-3D976275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1923D7-A39E-4638-AC36-BE4E644C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5CB837-5BFF-45F2-8ABE-3A509538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BC4535-F049-4F5D-9A34-69EA8415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49AC6D-C657-46C3-ADD1-697BECE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F19D-C235-4CF6-AB3A-5867A15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943E09-A224-4FB2-8667-8382F81A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BE59C5-EA46-4A84-BC80-29393BF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BD42E5-88CD-481E-8154-EE1F6156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2CC963-1B47-4F50-97DB-AA29AE0C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2747D4-612F-488A-B3FB-4454FC60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EFD395-4ED2-4739-8C4A-74C3E52C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43CC75-F573-4143-A8C5-3CE0D1AA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F3697C-24C9-4DCF-B911-4D60BD7F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02D59B-9BB1-4C19-872D-AABDD840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682EFF-6126-474E-A3BC-C4F92E11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77FE-7745-4948-A0C4-4F487F68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ADFCC7-178F-4D23-8251-90A5EF30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F32C12-F828-457B-B1DF-D0D9ACF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DFBA46-BED2-4ED1-B284-A49D693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799D14-4E31-421F-BF6E-21A8865D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AB4D74-2C02-40AB-BE98-3F95BCFD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87C40E-E72C-447B-8B06-3BB8BD0C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8B8024-DF74-4496-B2F0-7ACCE1ED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93A448-5181-49EF-B463-0A1BF9F8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A921C3-6964-4C46-A3F3-0B1DDCAE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1DD5DF-285E-4114-8771-7CD41FC1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798D-6F08-4300-ACFC-A6CF191E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3B9DC6-9B78-42BB-93B8-7BF722C9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B00FF4-462A-42B7-A6A2-2FE4ED79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8E5D4E-16AB-4CBE-8A01-DA54BEE7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A4B1A8-B8E1-4142-B379-8B0BE201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893427-C33E-45E7-ABF4-0D7782A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03AED8-8504-4368-86C9-1F316FD4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59B619-2CB7-4DBB-8EA6-7DC740D2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63CDD5-4B22-411C-98D8-AE4D6347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297A7F-7334-4EC3-9034-5CA98CF1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F30200-E7B3-41F0-968F-AE1CA6FE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8055-70ED-4F52-BBE1-907933C0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DD1FBB-E46C-4F67-A8DA-00633858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5901F1-9D46-4197-82C0-ABF72F8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2FB79F-3C9C-476A-AD69-AE219D8D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C4ED57-DD8B-46A6-B253-B1520BD6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F392F7-1018-412D-A793-99ABF625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6CDF04-C8E8-4CFD-A2C2-154602DA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F0FF5C-1768-4878-B11E-8235A08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93A225-FEC1-4937-8EED-AD51613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56CA79-8001-4D30-9EF4-C2478168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F4C9FA-342C-4ABA-A2B5-202195E3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EC60-D3DF-4B8E-A891-E58319CD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A0538B-8CEF-42D4-B334-F341E4CE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7805EB-B4A8-4E29-A01C-24AD6AE0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11F631-F864-420B-80C0-72445BF1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DAB098-EB41-4AE5-B364-3D534CA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4E9D7E-5F9E-4A54-A08F-BCEF718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7191E2-C52D-4050-AAA4-F79170E0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BE1760-B8CB-4BBC-9ADB-B2D9B861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A8B249-416A-4C80-ADD1-BE4D699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8303B4-D4BE-4B54-B910-BFD10176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6D5192-10F7-4147-ACA3-5636C59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C7C3-F73E-425C-8D5B-58655365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94D2EA-6093-46E2-9628-7EA4127B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C40639-A00E-4E25-8194-C622D4EC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9771BB-1484-422A-B8F7-C0471F08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1DD271-2A4C-4AB2-8479-D79FB975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57F72F-39C0-4402-B436-A8995A09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6D8763-4C5A-4083-A6D2-D34C8D12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3457EA-8F36-4EB3-9B10-C4C3C6AE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9E1427-FD8D-473F-AC1E-7C61B853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89AF8C-65C9-4F73-AFE7-CE2BCB47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7CF25E-CC1A-4BF0-806B-CBC485A3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582A-2A8D-4DF9-961B-524AD672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64583B-C7D3-4EFE-9FB8-67382E08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331781-FFBF-4163-8D25-EBD505EC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9BCF80-69C5-400C-923F-8E3F0F22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8C9A8E-7BE4-4B97-81D7-091C5668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2F25C3-68CB-4A8A-9A43-625CBDF6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1F7DD9-78F5-49C6-90B7-F00C153B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B108DA-47E4-46D4-AC3A-E7E2C277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93E83D-1E14-498D-B229-B25D5FEC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A07B64-F455-452B-97F7-C1BB7083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4FDB36-6C92-49E5-9489-198B0BD6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B722-07DC-4793-BBF8-383B4B87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252B42-58AB-4C41-9F5C-DF1422E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EF798D-5752-48E8-B06D-329315C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935767-6B03-4C72-97F2-90FE814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E444D5-6394-4076-BAA0-2E7F4904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BEA445-91EF-44A7-B3DF-B80629C8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AA9958-6B59-4159-860B-E9020259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5595D0-E457-45C0-ACFE-3FFEAC58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4EC1F7-451B-483B-99CE-EA88E271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F7F1B6-F738-40C9-AD01-3CC0EE2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EF127B-C6DB-48F0-91BF-F3CCFFAC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D86-3754-4991-8E8F-C77C956F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22D11-6CE0-42D4-81B5-5E7868D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AF5585-6426-41E1-A5D9-DB6FB2EC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9D3607-8E4F-4943-B2B2-40717C00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6A3859-F36D-43CE-8FFC-97A36238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40979C-C7CC-4AE7-8E12-7E082A3C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CE812F-7C73-4A31-B7CF-E43FB58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A50058-0FD5-4A99-A3B0-22E23193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884D2C-5B94-46DD-A6C9-76761A52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EA8736-9ECB-4E78-95F6-6C230CE1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B4C37E-6979-4D38-A3C4-4DA0EDB5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9276D0-500B-4318-B7D1-27DDC896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0BEA-DDF5-45BA-A50C-C4544175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62DAA1-AB79-4341-A64C-79E6F44F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D27180-6C6C-4C4B-B261-4AC76A17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009017-14D1-4D13-8573-B470061C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61AC7A-20BA-456B-A423-96916B2B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E0BB20-79F2-452D-BE63-0C796CC8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B536F4-8DC1-4F1F-B35A-61AAAFD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D9F206-BE1F-40FD-808D-7510AAE1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25DD3E-61C7-4A36-8D98-B0E60FB6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A2BE64-F8D7-4242-9E2D-C804DA20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EBBC10-E2EA-4AE8-891F-03BCB788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8B28-9812-4162-8D4D-AE9CE0AF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DBED99-530B-42DA-A674-4C7DDB97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C58BD4-A07C-4DD6-9C72-A49A52F0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204E88-974C-448E-B7C5-72421ACA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77A180-516A-4C46-8D8E-26251714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BD04E3-5233-4B93-BF64-C700D56B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50D1E5-D0B5-41AF-9A64-6E38DB8E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81C1C8-90D4-4369-AF34-40CD0735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127D12-97D5-4FD8-8B85-C38AFEF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15D0CF-6157-4055-997F-B0036C0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B3710D-5BF3-4AF0-948F-A5A08422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E0049-A8C2-4CBC-AE35-DDCFB75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5E65A4-61B0-463E-A33F-D4EA27D5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463D8A-3F38-4232-90A0-F47EA6F8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FF0606-81FE-414E-BCD1-A1B28C62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B9B508-8A5A-426B-BA9E-78B0DED5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05841D-57C2-43CF-A25D-531DB0DD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9CD564-6C48-417B-BB3B-5912C24F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9C28DB-9B01-49FC-A2C8-CBE85ECB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3425F9-995F-4A1C-84D1-0CD92F6F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EB03F5-60A3-4DDA-A878-CF68A692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6E67CC-C2C6-468D-AFA6-120E9B4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EB7F6-6C98-4551-9A7F-2EC38BD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AD7A74-58CA-4A48-8F21-E3D3DCF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4A30B9-DA3A-4E2B-9107-90ACFDCF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23C08A-9BC6-459B-8D89-6DDA453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AC0BFF-5BC9-4689-BE09-1A8371F0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1DE9A1-8C7B-4ECA-B92E-4C025EFA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F456BD-E9D9-40AC-BD02-E1B8BD69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4F1421-F312-45EE-94E9-011632E9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73318B-DA7E-4131-8BC0-3191F4CC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3CA099-2347-4255-9451-56FFD2AD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537B6C-01D3-4A36-BF8E-BC10FF22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DF4DC-5BA1-4C1F-9B92-033BF594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5180B3-04FC-41FB-8D5B-E8B3B85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6BA06A-A714-4E78-84F5-40D7E8FD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DCA424-0B1B-4D2C-B5D3-640CB1A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CD8463-C466-418E-950F-971C3DDF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FEF519-D5C2-43FB-903A-EABC84DE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A0E0A9-FDF1-456D-B844-A5F4E784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BE7A9A-A987-4ABF-984F-8FD9E0EB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BBEB30-18E9-48A5-9167-2EF490D9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744447-09FD-40C6-A758-A75125D1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BAFE27-EB36-4422-8FF6-6C57A93C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31F7-7715-4362-B2B4-A60E9855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5B737E-50A5-4E86-9CD5-9D3F21BD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F42796-23BD-4C64-8C86-6563A3CD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A12A2C-038D-433F-AF8A-14090475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45D268-CC50-41FF-9C2C-9672F6A9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9FCBBF-DDE7-4015-BD0E-38D71E2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5F06A3-ADDC-4573-B932-8B21629F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C08C79-C0C6-4ECB-AEC3-746D7FAB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6E133E-8665-4034-AB7C-34CED5D9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36B6C1-1D6B-46EA-8BA3-E3788283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FF0D9D7-949E-44A4-9594-EF0F9E52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0F3D-01ED-4F95-BFE3-69C18B9C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F7A98E-B214-48AC-A7FB-57716D04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29DF712-3AFB-44FA-8B79-79A0CFAD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C5EF43-4569-469C-877D-154F06D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30DA3C-EF46-43FB-ADE7-49509E38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72AB5A-BC6B-4660-B7EC-879FBFFF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2CF973-E18E-419B-AD6C-5277704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1967CB5-3425-4606-948E-4B7AADD1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B7690A8-0EF9-40B6-BDCD-1888539F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BDD294-8D04-4C29-B674-298D9BC6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825734-DAE1-4E2E-AB37-EDA2DEF0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C556-925B-4AAF-A097-86119C01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79029F-8F63-4F70-8F36-18C3EB32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6A0066-2177-4545-86A0-BBA37CC8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38A0F0-A376-4B54-8751-7D89BEEB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C7D9B4-5AA4-494F-BF91-FB5FA4E7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C5184F-0368-4418-9E8B-D0C9B31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FC0F49-485E-4BFB-A57F-E88DAD2F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A6DB14-0E30-4332-B91D-82C7BC91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823241-5F77-42C8-B7FF-E0B8FEB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B9743B-1879-4DF0-A71A-0BF2B0B9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26F5B4-6225-48C8-891E-E40F63FE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BE26A-0CE1-4B50-87BC-AF981281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0F288A-E064-455C-A362-007E0109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76F6EC8-8AEE-482F-9886-0DEFBDF4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45B045-F432-444E-A097-E38C0EAD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32741A-AA0E-46DD-998F-FE146E0D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F88FFF-2E2F-4AB0-9DDC-0A3DE5CF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7B73869-6ED8-4C10-92C5-147C4F2C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DE62AC-6B76-4799-9859-CD80B87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71763D-DA5E-41E7-B9A4-005A39C7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6B71B6-F8D4-4039-9522-1289A1F1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FEA3512-D0B2-4177-8969-CBCFCF16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C71-B076-4D77-BBAD-AFE22C9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D487D-C983-43C3-A628-309C908D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B37B60-06A7-424C-96C8-B403BA32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E57F03-7B73-455F-A934-23C3B56F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E6245D-1874-45DB-A418-0480B54F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5197D9A-21A4-4ED7-AE8C-5C15E13A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0A2E3D-6D5F-406B-8619-FF019252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BA97-CDBA-4C49-9F5C-7A37023E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523B8-7ACF-4545-8333-D54F4050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8F9A4-4FB4-49C2-BB92-A6C4D1BA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BA45A-0210-4EBC-B0AC-67048B91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F20B-3609-41E8-AD84-96518E71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84D71-EFB5-4024-9800-97E8B164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8895-F095-4AD6-8A9C-925E94C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22CD8-09DD-400A-A566-9C1416C4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63ED1-A64C-4853-AC30-30B5C312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968-E6FC-4323-9ABA-657BFAD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6400-8244-4C13-BF8D-C280CD42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14D7-CD04-4E25-93FB-015790D8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145A-72E3-4F75-BE74-6E93E700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DAD00-AA70-4E73-B253-8FF64BCB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1E1C2-4FF4-4E75-B901-8C22A81D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DACAC-2898-4D8F-A876-1EE337E0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944C-0ED9-4193-B4D6-F85E6B0F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C3FEC-4B39-4DBB-8CD1-5067A5D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72CB-ACC5-4CFA-9AB6-87E3AF8C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49F0E-7859-48B2-8958-10B7F52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C1C-D598-4D11-8964-35665980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2D1C-1A01-4758-B7AE-07381F17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1CF7-2FE9-44D7-8B86-33064425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ECE40-F1FD-4D24-A45B-AB761CB7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FEAC1-1318-4966-94AE-03437D2B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534C9-DC08-4005-A436-E1235C76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270BE-CFB4-462B-889A-76935369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3BEFC-78D2-4DD5-931C-02AAD871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42AE4-930A-4467-A4AF-9BAF8A63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5B0E9-7308-4B79-8976-0B476C0D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24FDE-2076-4BAC-8E45-898DCDD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AB6-B1D0-4F66-B732-59E3894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1090C-8B4A-4865-8110-0D1207B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754D1-7EBE-408C-881B-A5E9FE59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60283-A1AB-4B87-AD91-11FBDAC5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6B4CA-B76C-438E-B545-D34BCA61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1AA9F-FB56-4D4C-A5BC-0DF46E65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04366-E664-46E7-93DD-7AF25936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1903A-CDF5-4142-8A82-94E25EC2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1DC0-B360-4327-AE80-CEB588FE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601E-34F6-4019-AE7E-1DD82CBB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B8D91-5ED3-4540-93EA-84B16920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4D0-C10B-4841-BF87-6C44B8FD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E604C-D706-4C33-BF26-2330FF2E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296BE-EDD8-4B9E-87A2-B2989A20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A38AB-16BA-43D3-B068-6FB0F0DE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C77E0-58E2-40A3-B576-7B9955F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752F-6BF9-4EF9-BEA3-6896A290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087D1-643E-4ABE-91C3-830D2960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536DD-A09E-40B4-A971-5F168A05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5883D-1FC6-4990-A6BA-C98A8832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82145-9707-48F5-BA56-7B5F8677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D4623-B5C9-4809-894A-9D2E488C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B84A-6340-4462-905B-E63C5A1D388F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uapvalintas stačiakamp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ačiakampis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tačiakampis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tačiakampis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6F6-2D31-4733-9E5D-8FFBEACE4B6F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C3D3-526A-4EB0-9A36-88C4C4881692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Suapvalintas stačiakampis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90" name="Suapvalintas stačiakampis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Stačiakampis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tačiakampis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tačiakampis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412F-815A-4AED-8A1A-170C401BBAAD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E3CC-9A07-447A-8F6F-79DC146B39CE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69AB-DC66-4AC4-ABF5-95844C7C21E7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7DD1-62EF-4F5F-A6A7-BEC295892C94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CC8E-D504-42D1-A7E9-52E69667D058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uapvalintas stačiakamp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2398-E2F7-4C1C-9997-733EBEFF56D0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tačiakampis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tačiakampis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tačiakampis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2D12-EA4F-4BF7-B360-F3277D5836DE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5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74B-3A06-4AF3-91D0-053322E636BF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1628-B4DD-49CE-9E0F-76E1B363B787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6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6BF3-A5DF-404E-B888-F7ABADDE6CD1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uapvalintas stačiakamp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tačiakampis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tačiakampis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tačiakampis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6D74-81BF-4A29-B22E-CB18240B9AAF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E855-2B84-4115-AF2E-3136CB28098A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5" name="Suapvalintas stačiakampis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76" name="Suapvalintas stačiakampis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8" name="Stačiakampis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tačiakampis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tačiakampis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F18D-D3C2-4D5B-AC2A-8B1ECA707752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CA0E-761C-4F4B-8F5F-7C097C89D472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7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7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795-ECBE-4604-A090-DE60201804BF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0C55-C483-43CB-81FF-F690F908149B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7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F62-F4FD-4D62-B5C5-B9D4531F7620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uapvalintas stačiakamp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8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8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8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6BDC-9F41-48C7-B2CB-33D3AED673A2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tačiakampis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tačiakampis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tačiakampis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dt" idx="8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ftr" idx="8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 type="sldNum" idx="8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AAAC-290A-4500-8B3D-67B1312CBF0D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2799-0A8E-4353-B66D-FCE119228095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dt" idx="8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ftr" idx="8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 type="sldNum" idx="9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1B3D-B381-4735-A6B4-7C0013BFD2DC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dt" idx="9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ftr" idx="9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sldNum" idx="9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FFD3-472F-4CE0-A67F-91D883BB8566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Line 9"/>
          <p:cNvSpPr/>
          <p:nvPr/>
        </p:nvSpPr>
        <p:spPr>
          <a:xfrm>
            <a:off x="1752480" y="3733920"/>
            <a:ext cx="7239240" cy="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2" name="Group 15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373" name="Picture 1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Text Box 14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94"/>
          </p:nvPr>
        </p:nvSpPr>
        <p:spPr>
          <a:xfrm>
            <a:off x="167652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95"/>
          </p:nvPr>
        </p:nvSpPr>
        <p:spPr>
          <a:xfrm>
            <a:off x="2742840" y="6244920"/>
            <a:ext cx="487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96"/>
          </p:nvPr>
        </p:nvSpPr>
        <p:spPr>
          <a:xfrm>
            <a:off x="777240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FA59-67BF-4819-B743-726C5E57A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6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417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97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98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99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2C1F-9012-40D3-BBB8-5244C1036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461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2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 type="dt" idx="100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 type="ftr" idx="101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 type="sldNum" idx="102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89E6-0F58-429D-A115-65CDEB432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4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505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 type="dt" idx="103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 type="ftr" idx="104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 type="sldNum" idx="105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BFF0-FAC5-4FF8-84BF-8224A51C9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8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549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dt" idx="106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ftr" idx="107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 type="sldNum" idx="108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37A7-5D37-447F-8EB3-40C759F88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593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4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 type="dt" idx="109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 type="ftr" idx="110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 type="sldNum" idx="111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10D2-6B04-4E97-B3AB-ED0BF1C90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637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8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dt" idx="112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 type="ftr" idx="113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 type="sldNum" idx="114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8E48-0522-49AE-BC31-F5CFA3571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0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681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2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15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16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17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7C3C-C96F-4375-8E0F-EB5A7C2B2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C003-A78A-4B0C-A4BD-ECFCDD51E73A}" type="datetime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23D6-335E-44BD-9E35-AE26A0290329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4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725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6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dt" idx="118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ftr" idx="119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sldNum" idx="120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2A18-AB43-4EB0-8C59-46FFB9250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8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769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0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121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122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123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357B-223B-4352-AEB5-FFA72E1D5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2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813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4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124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125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126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7E0-750E-4154-9AF7-F42210C63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0BD7-F3D2-4782-9FCB-4BD3DB92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176" name="Picture 1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5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uapvalintas stačiakamp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ačiakampis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tačiakampis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ačiakampis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24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417C-C687-4199-B82A-EED30DECC537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Suapvalintas stačiakampis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2" name="Suapvalintas stačiakampis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Stačiakampis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ačiakampis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ačiakampis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24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F61F-947B-4850-B22D-C14CC3FF58EA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ačiakampis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uapvalintas stačiakamp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B0ED-A25D-45CE-8FAB-360AD0B34143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tačiakampis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uapvalintas stačiakamp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ačiakampis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ačiakampis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tačiakampis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24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2605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c956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c956e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30303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B621-F218-4E28-9191-61A8BF71EBE8}" type="slidenum">
              <a:rPr b="0" lang="lt-L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716292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лого и среднего бизнеса</a:t>
            </a:r>
            <a:br>
              <a:rPr sz="3600"/>
            </a:b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ubTitle"/>
          </p:nvPr>
        </p:nvSpPr>
        <p:spPr>
          <a:xfrm>
            <a:off x="2361960" y="43434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303030"/>
                </a:solidFill>
                <a:latin typeface="Perpetua"/>
                <a:ea typeface="Arial"/>
              </a:rPr>
              <a:t>Daiva Viningien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303030"/>
                </a:solidFill>
                <a:latin typeface="Perpetua"/>
                <a:ea typeface="Arial"/>
              </a:rPr>
              <a:t>Ryga</a:t>
            </a:r>
            <a:r>
              <a:rPr b="0" lang="ru-RU" sz="2600" spc="-1" strike="noStrike">
                <a:solidFill>
                  <a:srgbClr val="303030"/>
                </a:solidFill>
                <a:latin typeface="Perpetua"/>
                <a:ea typeface="Arial"/>
              </a:rPr>
              <a:t>, </a:t>
            </a:r>
            <a:r>
              <a:rPr b="0" lang="lt-LT" sz="2600" spc="-1" strike="noStrike">
                <a:solidFill>
                  <a:srgbClr val="303030"/>
                </a:solidFill>
                <a:latin typeface="Perpetua"/>
                <a:ea typeface="Arial"/>
              </a:rPr>
              <a:t>20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онсалтинговые услуги на льготных условиях программ развития бизнес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слуги бизнес-инкубаторов, технологические парк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слуги по обучению на льготных условиях развития бизнеса и программ занятост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ддержка создания новых рабочих мест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истемы микрокредитования для начинающих предпринимателей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200" indent="-342720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40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Значительное влияние на малые и средние предприятия имеют городские и региональные органы вла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одоходный налог с населения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е советы имеют право для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ньшен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а на прибыль или полное освобождение от нее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(физические лиц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 txBox="1"/>
          <p:nvPr/>
        </p:nvSpPr>
        <p:spPr>
          <a:xfrm>
            <a:off x="395280" y="692280"/>
            <a:ext cx="8259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2. Обязательна</a:t>
            </a:r>
            <a:r>
              <a:rPr b="0" i="1" lang="ru-RU" sz="2200" spc="-1" strike="noStrike">
                <a:solidFill>
                  <a:srgbClr val="000000"/>
                </a:solidFill>
                <a:latin typeface="Book Antiqua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патентна</a:t>
            </a:r>
            <a:r>
              <a:rPr b="0" i="1" lang="ru-RU" sz="2200" spc="-1" strike="noStrike">
                <a:solidFill>
                  <a:srgbClr val="000000"/>
                </a:solidFill>
                <a:latin typeface="Book Antiqua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плат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физическим лицам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й совет может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нкретны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овые ставки (минимум)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Земельный налог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й совет своего бюджета имеет прав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ньшит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 на землю или исключений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Налога на недвижимость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07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й совет своего бюджета имеет прав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ньшит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 на недвижимость или исключений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499680" y="1285560"/>
            <a:ext cx="8186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5. Цена за рыночное мест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й совет имеет право на увеличения ил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ньшен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налогов до 70%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6. Местные налоги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ые советы имеет право для определения ставки местных плат и облегчени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7. Субсиди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обычно дается физическое или юридическое лицо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бсидии могут быть предоставлены для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пенсации заработной платы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новых рабочих мест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ектное финансирование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центных ставок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пенсировать расходы на участия бизнеса в выставках, ярмарках, деловых миссиях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 txBox="1"/>
          <p:nvPr/>
        </p:nvSpPr>
        <p:spPr>
          <a:xfrm>
            <a:off x="395280" y="620640"/>
            <a:ext cx="82915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может получить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микрокредиты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от литовских  кредитных  союзов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лиц, желающих начать свой бизнес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микро, малых компаний и частных лиц, которые работают в бизнесе с бизнес лицензией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когда социальное предприятие развивает бизнес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Perpetua"/>
                <a:ea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libri"/>
              </a:rPr>
              <a:t>Д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СП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Инвестиции и бизнес гарантий " (​​INVEGA) предоставляет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убсидии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NVEGA предоставляет гарантии по банковским кредитам для МСП лица (до 80 %) и охватывает до 50 % гарантированного займ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 txBox="1"/>
          <p:nvPr/>
        </p:nvSpPr>
        <p:spPr>
          <a:xfrm>
            <a:off x="394920" y="765000"/>
            <a:ext cx="8258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анки предоставляют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кредиты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микро, малых и средних предприятий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о 175 000 мил лит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Цель кредит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инвестиции или оборотного капитал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о 350 000 мил лит. 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Цель кредит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развитие малого и среднего бизнес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Perpetua"/>
              </a:rPr>
              <a:t>4.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Бизнес-ангел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неофициальные частные инвесторы, финансирует</a:t>
            </a:r>
            <a:r>
              <a:rPr b="0" lang="lt-LT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жизнеспособные новые компании/бизнес-идеи/проекты, а также передаёт свои знания, опыт и деловые контакты. Он финансирует высокорисковые проекты, чем банки не интересует. Среднестатистическим инвестиционный ангел: 20-200 тысяч. евро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в Литве 2000-2013 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регистрированные и снятые с учета)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82" name="Turinio vietos rezervavimo ženklas 3" descr="juridinius asmenu skaicius.jpg"/>
          <p:cNvPicPr/>
          <p:nvPr/>
        </p:nvPicPr>
        <p:blipFill>
          <a:blip r:embed="rId1"/>
          <a:stretch/>
        </p:blipFill>
        <p:spPr>
          <a:xfrm>
            <a:off x="395280" y="1546200"/>
            <a:ext cx="8424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8964720" cy="4896000"/>
          </a:xfrm>
          <a:prstGeom prst="rect">
            <a:avLst/>
          </a:prstGeom>
          <a:ln w="0">
            <a:noFill/>
          </a:ln>
        </p:spPr>
      </p:pic>
      <p:sp>
        <p:nvSpPr>
          <p:cNvPr id="188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8465-6664-456B-A4B6-58871A7E5C6D}" type="datetime">
              <a:rPr b="0" lang="lt-LT" sz="1200" spc="-1" strike="noStrike">
                <a:solidFill>
                  <a:srgbClr val="898989"/>
                </a:solidFill>
                <a:latin typeface="Calibri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Stačiakampis 1"/>
          <p:cNvSpPr/>
          <p:nvPr/>
        </p:nvSpPr>
        <p:spPr>
          <a:xfrm>
            <a:off x="684360" y="549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процессов банкротства в Литве 1993-201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а и завершения процес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179280" y="333360"/>
            <a:ext cx="8507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оследние 20 лет, МСП разработал большинство новых рабочих мест. В большинстве случаев, малые и средние предприятия нашли новые рынки сбыта, предлагая новые и лучшие продукты и услуги, создают новые рабочие места и экономические изменения, стали лидером в этом процессе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3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ля каких микро и макро причин страны Европейского Союза все больше и больше рекомендует сосредоточитъ больше внимания на малый и средний бизнес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 txBox="1"/>
          <p:nvPr/>
        </p:nvSpPr>
        <p:spPr>
          <a:xfrm>
            <a:off x="250560" y="404640"/>
            <a:ext cx="843588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кр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ы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рассчитывать на ресурсы недопустимо крупного бизнес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довольствоваться небольшими нишами и развивать свою деятельность в менее привлекательных направлений деятельност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связь с рынком и окружающей средой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е создания, управления и выходы из рынк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й жизненной цикл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издержки производства из за низкого производств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й риск с кредитам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использовать домашнего хозяйства, ресурсы родственнико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 txBox="1"/>
          <p:nvPr/>
        </p:nvSpPr>
        <p:spPr>
          <a:xfrm>
            <a:off x="395280" y="1447920"/>
            <a:ext cx="82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р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ы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лый бизнес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тобы росла экономи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ни привлекают динамичных людей - предпринимателей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гут гибко реагировать на изменения рынк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величивает конкуренцию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то -один из основных элементов здоровой экономик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ешает проблемы занятос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3030"/>
                </a:solidFill>
                <a:latin typeface="Times New Roman"/>
                <a:ea typeface="Calibri"/>
              </a:rPr>
              <a:t> </a:t>
            </a:r>
            <a:r>
              <a:rPr b="1" lang="ru-RU" sz="2200" spc="-1" strike="noStrike">
                <a:solidFill>
                  <a:srgbClr val="303030"/>
                </a:solidFill>
                <a:latin typeface="Times New Roman"/>
                <a:ea typeface="Calibri"/>
              </a:rPr>
              <a:t>Сравнение понятий  предприяти</a:t>
            </a:r>
            <a:r>
              <a:rPr b="1" lang="ru-RU" sz="2200" spc="-1" strike="noStrike">
                <a:solidFill>
                  <a:srgbClr val="303030"/>
                </a:solidFill>
                <a:latin typeface="Times New Roman"/>
                <a:ea typeface="Calibri"/>
              </a:rPr>
              <a:t>й</a:t>
            </a:r>
            <a:r>
              <a:rPr b="1" lang="ru-RU" sz="2200" spc="-1" strike="noStrike">
                <a:solidFill>
                  <a:srgbClr val="303030"/>
                </a:solidFill>
                <a:latin typeface="Times New Roman"/>
                <a:ea typeface="Calibri"/>
              </a:rPr>
              <a:t> малого и среднего бизнеса (МСП)</a:t>
            </a:r>
            <a:endParaRPr b="0" lang="en-US" sz="2200" spc="-1" strike="noStrike">
              <a:solidFill>
                <a:srgbClr val="303030"/>
              </a:solidFill>
              <a:latin typeface="Franklin Gothic Book"/>
            </a:endParaRPr>
          </a:p>
        </p:txBody>
      </p:sp>
      <p:graphicFrame>
        <p:nvGraphicFramePr>
          <p:cNvPr id="1862" name=""/>
          <p:cNvGraphicFramePr/>
          <p:nvPr/>
        </p:nvGraphicFramePr>
        <p:xfrm>
          <a:off x="1187280" y="1268280"/>
          <a:ext cx="7129800" cy="4267440"/>
        </p:xfrm>
        <a:graphic>
          <a:graphicData uri="http://schemas.openxmlformats.org/drawingml/2006/table">
            <a:tbl>
              <a:tblPr/>
              <a:tblGrid>
                <a:gridCol w="1989360"/>
                <a:gridCol w="5140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br>
                        <a:rPr sz="2000"/>
                      </a:b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е пред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ания, которая удовлетворяет следующим условия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250 работник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овой доход не превышает 138 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ое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ания, которая удовлетворяет следующим условия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50 сотрудник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овой доход не превышает 24 мил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 пред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ания, которая удовлетворяет следующим условия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10 работник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ового дохода не превышает  7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л. л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С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количества работников (2013)</a:t>
            </a:r>
            <a:endParaRPr b="0" lang="en-US" sz="2400" spc="-1" strike="noStrike">
              <a:solidFill>
                <a:srgbClr val="303030"/>
              </a:solidFill>
              <a:latin typeface="Franklin Gothic Book"/>
            </a:endParaRPr>
          </a:p>
        </p:txBody>
      </p:sp>
      <p:graphicFrame>
        <p:nvGraphicFramePr>
          <p:cNvPr id="1864" name=""/>
          <p:cNvGraphicFramePr/>
          <p:nvPr/>
        </p:nvGraphicFramePr>
        <p:xfrm>
          <a:off x="395280" y="1700280"/>
          <a:ext cx="8497800" cy="3720960"/>
        </p:xfrm>
        <a:graphic>
          <a:graphicData uri="http://schemas.openxmlformats.org/drawingml/2006/table">
            <a:tbl>
              <a:tblPr/>
              <a:tblGrid>
                <a:gridCol w="1728720"/>
                <a:gridCol w="2517840"/>
                <a:gridCol w="963720"/>
                <a:gridCol w="2212920"/>
                <a:gridCol w="107460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количество  работн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число групп МС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работн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5–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5 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0–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 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–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6 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8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50–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 7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8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00–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50-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4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СП 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о размерам дохода (2012-2013)</a:t>
            </a:r>
            <a:endParaRPr b="0" lang="en-US" sz="2400" spc="-1" strike="noStrike">
              <a:solidFill>
                <a:srgbClr val="303030"/>
              </a:solidFill>
              <a:latin typeface="Franklin Gothic Book"/>
            </a:endParaRPr>
          </a:p>
        </p:txBody>
      </p:sp>
      <p:graphicFrame>
        <p:nvGraphicFramePr>
          <p:cNvPr id="1866" name=""/>
          <p:cNvGraphicFramePr/>
          <p:nvPr/>
        </p:nvGraphicFramePr>
        <p:xfrm>
          <a:off x="395280" y="1989000"/>
          <a:ext cx="8640720" cy="3162600"/>
        </p:xfrm>
        <a:graphic>
          <a:graphicData uri="http://schemas.openxmlformats.org/drawingml/2006/table">
            <a:tbl>
              <a:tblPr/>
              <a:tblGrid>
                <a:gridCol w="2844720"/>
                <a:gridCol w="1576440"/>
                <a:gridCol w="1576440"/>
                <a:gridCol w="1574640"/>
                <a:gridCol w="1068480"/>
              </a:tblGrid>
              <a:tr h="49212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 размеров дохо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3 </a:t>
                      </a: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-01-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2 </a:t>
                      </a: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-01-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личество М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личество М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 1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71 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69 8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8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–6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1 6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0 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7–23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 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 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4–137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. 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 0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9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авовые формы малого и среднего бизнеса</a:t>
            </a:r>
            <a:endParaRPr b="0" lang="en-US" sz="24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68" name=""/>
          <p:cNvSpPr txBox="1"/>
          <p:nvPr/>
        </p:nvSpPr>
        <p:spPr>
          <a:xfrm>
            <a:off x="108000" y="1447920"/>
            <a:ext cx="88567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В соответствии  законом применимого права (2004-2011) Литвы МСП мероприятия могут быть организованы как 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Book Antiqua"/>
              </a:rPr>
              <a:t>физическое лицо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приобрести лиценз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ю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 на предпринимательскую деятельность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регистрация отдельных видов деятельност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ил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Создание 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Book Antiqua"/>
              </a:rPr>
              <a:t>юридического лица</a:t>
            </a: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Индивидуальное предприяти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Акционерное обще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Некоммерческая организация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Коммандитное товарище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С 2012 года. 1 сентября. Можно создать новую правовую форму компании - Малые сообществ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4440" indent="-334440">
              <a:lnSpc>
                <a:spcPct val="90000"/>
              </a:lnSpc>
              <a:spcBef>
                <a:spcPts val="575"/>
              </a:spcBef>
              <a:buClr>
                <a:srgbClr val="ad010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арианты поддержки МСП</a:t>
            </a:r>
            <a:endParaRPr b="0" lang="en-US" sz="28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250560" y="1447560"/>
            <a:ext cx="87138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алый и средний бизнес может использовать эти формы поддержки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логовые льготы в соответствии с законом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Фонд поощрения малого и среднего бизнеса для финансовой поддержки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14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осударственные и муниципальные финансовая помощь от программ развития малого предпринимательства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59:51Z</dcterms:created>
  <dc:creator>Daiva</dc:creator>
  <dc:description/>
  <dc:language>en-US</dc:language>
  <cp:lastModifiedBy>Daiva</cp:lastModifiedBy>
  <dcterms:modified xsi:type="dcterms:W3CDTF">2013-05-22T19:39:54Z</dcterms:modified>
  <cp:revision>44</cp:revision>
  <dc:subject/>
  <dc:title>Smulkaus ir vidutinio verslo (svv) samprata</dc:title>
</cp:coreProperties>
</file>